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ED2-1FB1-457F-87EE-97F25B15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91DF-E793-4160-91C0-FAABE1FD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B7A-AC8B-4E7A-8EC2-66E39411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B7E-893B-41E2-9B46-1305FB29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B3541-177C-485E-BEE5-BEE1C465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23EC3-344C-4D49-8FFD-FF3E7D62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D8693-2486-450D-9E21-C8DD4C23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B88E2-957E-4F5D-9E5E-34A1FD5C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F521D-6BCE-447D-A1E0-0D77501A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F32BD-0BC3-4488-94F6-A8D1E11B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C5171-197E-4BAB-AF5F-3E8A3C01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40C-0263-489A-B43C-10A5BEF2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1CCCD-28A5-487C-8306-1A0DF788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5345E-88A7-435D-A56E-4D2374EB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F7338-8160-41F8-A36B-DF69377A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584AB-F7C7-4473-877F-DC7C84D2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EA62A-8771-44FD-8B58-CD8B4DD5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E0262-2310-4A52-B4C6-2AA1DE72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98634-6090-45CB-A09C-A905DD54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BBF6B-4280-4F7B-A2F4-451CC90B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7FD09-9BB9-4389-A272-212229E4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351BB-5BEF-4F6B-AC55-8B0C9060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630-8A1C-4D0E-9DC0-86A8C1DC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4DA0D-B4E7-4F4C-90CE-CB62C5B5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1F8EF-0549-4116-80EA-6639BA01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94564-554F-41F0-9A94-E338ADAB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A47DA-8EBB-4737-ACAD-E736D5EE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376BC-596C-413D-AE5B-0CD7AF5B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7FF14-40DD-4BEC-A87E-6DEF3A4F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431FA-F40C-4BD8-977E-7A7938B4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B592B-4BD6-48F1-93AC-2308E9BE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2E47-CDCD-4A91-BCD2-3B9D0C6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28724-C692-421C-8312-0F0E5CAF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41E-4597-4126-AD06-DEF665A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7C4A0-0F32-4E8B-BC1E-96A37CEC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8B089-9B9C-42C4-B6B2-49F0CD19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5C874-017F-4883-955C-CE7E7234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C5BF6-63B5-431A-ACFE-76C8A509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A6121-9B70-47F2-8371-D622E09B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BF2E8-AA47-4696-BF56-FBCB827C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25D02-F80A-4EFC-B5D2-F8B7EF77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CAEE4-A601-4BEA-98D0-90DDBED9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51966-6A63-4515-92DB-22A7265B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349-E90A-4397-B33D-ABC86307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7A5-8C5E-4077-B2B6-3A8EE623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EDC-674B-4D71-838E-0D42948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8A0-170E-4D2A-AB91-27AA33CD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F36-536C-4F15-998E-A9AF93B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758E-78FE-4CC2-A139-D7FB6E6AB2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6239-DBE6-407F-B0A2-22CA35C41ED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3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E33F-80E1-4E02-8BE9-661F17BB9F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EEB8-076D-47B3-A069-70FD6B1D6F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evingong.com/Hiking/Images/199909HohRaiForest/B15MountOlympus.jpg" TargetMode="External"/><Relationship Id="rId2" Type="http://schemas.openxmlformats.org/officeDocument/2006/relationships/hyperlink" Target="http://www.world-geographics.com/maps/europe/map-of-europe-with-country-borders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MS910218941[1].wav" descr=""/>
          <p:cNvPicPr/>
          <p:nvPr/>
        </p:nvPicPr>
        <p:blipFill>
          <a:blip r:embed="rId1"/>
          <a:stretch/>
        </p:blipFill>
        <p:spPr>
          <a:xfrm>
            <a:off x="8077320" y="1447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B15MountOlympus"/>
          <p:cNvPicPr/>
          <p:nvPr/>
        </p:nvPicPr>
        <p:blipFill>
          <a:blip r:embed="rId2"/>
          <a:stretch/>
        </p:blipFill>
        <p:spPr>
          <a:xfrm>
            <a:off x="-380880" y="-228600"/>
            <a:ext cx="10515600" cy="7381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2"/>
          <p:cNvSpPr/>
          <p:nvPr/>
        </p:nvSpPr>
        <p:spPr>
          <a:xfrm rot="20246400">
            <a:off x="762120" y="1371240"/>
            <a:ext cx="33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An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 rot="21097200">
            <a:off x="3809520" y="6091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 rot="18916800">
            <a:off x="4038840" y="151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 rot="20671800">
            <a:off x="4495680" y="151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 rot="1534800">
            <a:off x="4800240" y="838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 rot="1116000">
            <a:off x="5181120" y="9903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 rot="907800">
            <a:off x="5714640" y="1523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 rot="1495200">
            <a:off x="6019560" y="19047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 rot="1419600">
            <a:off x="6323760" y="2285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 rot="907800">
            <a:off x="6629040" y="2285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3"/>
          <p:cNvSpPr/>
          <p:nvPr/>
        </p:nvSpPr>
        <p:spPr>
          <a:xfrm rot="1250400">
            <a:off x="6857640" y="27428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 rot="2238000">
            <a:off x="7238520" y="251424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 rot="2238000">
            <a:off x="7467120" y="289512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 rot="20929200">
            <a:off x="7772400" y="312372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 rot="1522200">
            <a:off x="8076960" y="3352680"/>
            <a:ext cx="7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Goudy Stout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 rot="19960800">
            <a:off x="762120" y="29714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 rot="20497800">
            <a:off x="1676520" y="2590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 rot="930600">
            <a:off x="2133360" y="2743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 rot="930600">
            <a:off x="2513880" y="2743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 rot="1308600">
            <a:off x="289512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 rot="930600">
            <a:off x="3276360" y="3048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 rot="930600">
            <a:off x="3656880" y="3276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7"/>
          <p:cNvSpPr/>
          <p:nvPr/>
        </p:nvSpPr>
        <p:spPr>
          <a:xfrm rot="1264800">
            <a:off x="3885840" y="3504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38"/>
          <p:cNvSpPr/>
          <p:nvPr/>
        </p:nvSpPr>
        <p:spPr>
          <a:xfrm rot="930600">
            <a:off x="4743000" y="4040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39"/>
          <p:cNvSpPr/>
          <p:nvPr/>
        </p:nvSpPr>
        <p:spPr>
          <a:xfrm rot="930600">
            <a:off x="4266360" y="3733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1"/>
          <p:cNvSpPr/>
          <p:nvPr/>
        </p:nvSpPr>
        <p:spPr>
          <a:xfrm rot="930600">
            <a:off x="4494960" y="4038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2"/>
          <p:cNvSpPr/>
          <p:nvPr/>
        </p:nvSpPr>
        <p:spPr>
          <a:xfrm rot="930600">
            <a:off x="4799880" y="4114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43"/>
          <p:cNvSpPr/>
          <p:nvPr/>
        </p:nvSpPr>
        <p:spPr>
          <a:xfrm rot="930600">
            <a:off x="5257080" y="4267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4"/>
          <p:cNvSpPr/>
          <p:nvPr/>
        </p:nvSpPr>
        <p:spPr>
          <a:xfrm rot="930600">
            <a:off x="5637960" y="4419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 rot="930600">
            <a:off x="609516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6"/>
          <p:cNvSpPr/>
          <p:nvPr/>
        </p:nvSpPr>
        <p:spPr>
          <a:xfrm rot="20974200">
            <a:off x="685440" y="3580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7"/>
          <p:cNvSpPr/>
          <p:nvPr/>
        </p:nvSpPr>
        <p:spPr>
          <a:xfrm rot="20974200">
            <a:off x="1218960" y="35809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8"/>
          <p:cNvSpPr/>
          <p:nvPr/>
        </p:nvSpPr>
        <p:spPr>
          <a:xfrm rot="282000">
            <a:off x="1752480" y="3505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MS910218941[1].wav" descr=""/>
          <p:cNvPicPr/>
          <p:nvPr/>
        </p:nvPicPr>
        <p:blipFill>
          <a:blip r:embed="rId3"/>
          <a:stretch/>
        </p:blipFill>
        <p:spPr>
          <a:xfrm>
            <a:off x="8077320" y="4648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2"/>
          <p:cNvSpPr/>
          <p:nvPr/>
        </p:nvSpPr>
        <p:spPr>
          <a:xfrm rot="282000">
            <a:off x="2057400" y="3505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3"/>
          <p:cNvSpPr/>
          <p:nvPr/>
        </p:nvSpPr>
        <p:spPr>
          <a:xfrm rot="637200">
            <a:off x="2514240" y="3733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54"/>
          <p:cNvSpPr/>
          <p:nvPr/>
        </p:nvSpPr>
        <p:spPr>
          <a:xfrm rot="282000">
            <a:off x="2971800" y="4038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55"/>
          <p:cNvSpPr/>
          <p:nvPr/>
        </p:nvSpPr>
        <p:spPr>
          <a:xfrm rot="282000">
            <a:off x="3200400" y="4191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56"/>
          <p:cNvSpPr/>
          <p:nvPr/>
        </p:nvSpPr>
        <p:spPr>
          <a:xfrm rot="282000">
            <a:off x="3657600" y="4343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57"/>
          <p:cNvSpPr/>
          <p:nvPr/>
        </p:nvSpPr>
        <p:spPr>
          <a:xfrm rot="282000">
            <a:off x="4038480" y="4419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8"/>
          <p:cNvSpPr/>
          <p:nvPr/>
        </p:nvSpPr>
        <p:spPr>
          <a:xfrm rot="282000">
            <a:off x="4419720" y="4648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9"/>
          <p:cNvSpPr/>
          <p:nvPr/>
        </p:nvSpPr>
        <p:spPr>
          <a:xfrm rot="282000">
            <a:off x="4800600" y="47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60"/>
          <p:cNvSpPr/>
          <p:nvPr/>
        </p:nvSpPr>
        <p:spPr>
          <a:xfrm rot="282000">
            <a:off x="5105520" y="48769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Stout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202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Goudy Stout"/>
              </a:rPr>
              <a:t>Lo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94" name="Picture 7" descr="map_of_europe_borders"/>
          <p:cNvPicPr/>
          <p:nvPr/>
        </p:nvPicPr>
        <p:blipFill>
          <a:blip r:embed="rId1"/>
          <a:stretch/>
        </p:blipFill>
        <p:spPr>
          <a:xfrm>
            <a:off x="1447920" y="1371600"/>
            <a:ext cx="5105160" cy="4788000"/>
          </a:xfrm>
          <a:prstGeom prst="rect">
            <a:avLst/>
          </a:prstGeom>
          <a:ln w="0">
            <a:noFill/>
          </a:ln>
        </p:spPr>
      </p:pic>
      <p:sp>
        <p:nvSpPr>
          <p:cNvPr id="295" name="Line 9"/>
          <p:cNvSpPr/>
          <p:nvPr/>
        </p:nvSpPr>
        <p:spPr>
          <a:xfrm flipH="1" flipV="1">
            <a:off x="5333760" y="5562360"/>
            <a:ext cx="144756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WordArt 10"/>
          <p:cNvSpPr txBox="1"/>
          <p:nvPr/>
        </p:nvSpPr>
        <p:spPr>
          <a:xfrm>
            <a:off x="6934320" y="5867280"/>
            <a:ext cx="20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Bradley Hand ITC"/>
              </a:rPr>
              <a:t>GREECE!!!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Bradley Hand ITC"/>
              <a:ea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Goudy Stout"/>
              </a:rPr>
              <a:t>Landfo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98" name="Picture 5" descr="mount_olympus-jp2"/>
          <p:cNvPicPr/>
          <p:nvPr/>
        </p:nvPicPr>
        <p:blipFill>
          <a:blip r:embed="rId1"/>
          <a:stretch/>
        </p:blipFill>
        <p:spPr>
          <a:xfrm>
            <a:off x="228600" y="1295280"/>
            <a:ext cx="4038480" cy="2833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be7dd7259f"/>
          <p:cNvPicPr/>
          <p:nvPr/>
        </p:nvPicPr>
        <p:blipFill>
          <a:blip r:embed="rId2"/>
          <a:stretch/>
        </p:blipFill>
        <p:spPr>
          <a:xfrm>
            <a:off x="4495680" y="3048120"/>
            <a:ext cx="42436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Goudy Stout"/>
              </a:rPr>
              <a:t>Oceans and Coastlin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1" name="Picture 7" descr="greekcoastf"/>
          <p:cNvPicPr/>
          <p:nvPr/>
        </p:nvPicPr>
        <p:blipFill>
          <a:blip r:embed="rId1"/>
          <a:stretch/>
        </p:blipFill>
        <p:spPr>
          <a:xfrm>
            <a:off x="457200" y="1600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Aegean_sea"/>
          <p:cNvPicPr/>
          <p:nvPr/>
        </p:nvPicPr>
        <p:blipFill>
          <a:blip r:embed="rId2"/>
          <a:srcRect l="0" t="0" r="0" b="7883"/>
          <a:stretch/>
        </p:blipFill>
        <p:spPr>
          <a:xfrm>
            <a:off x="4419720" y="1447920"/>
            <a:ext cx="4190760" cy="2895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zygaria_antallagi_emboreumaton_650_bg"/>
          <p:cNvPicPr/>
          <p:nvPr/>
        </p:nvPicPr>
        <p:blipFill>
          <a:blip r:embed="rId3"/>
          <a:stretch/>
        </p:blipFill>
        <p:spPr>
          <a:xfrm>
            <a:off x="2743200" y="4495680"/>
            <a:ext cx="28670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Goudy Stout"/>
              </a:rPr>
              <a:t>How Geography affected the Governmen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5" name="Picture 5" descr="ancient-greek-gov"/>
          <p:cNvPicPr/>
          <p:nvPr/>
        </p:nvPicPr>
        <p:blipFill>
          <a:blip r:embed="rId1"/>
          <a:stretch/>
        </p:blipFill>
        <p:spPr>
          <a:xfrm>
            <a:off x="1523880" y="2209680"/>
            <a:ext cx="571500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Goudy Stout"/>
              </a:rPr>
              <a:t>Cita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47920" y="1752480"/>
            <a:ext cx="609588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kevingong.com/Hiking/Images/199909HohRaiForest/B15MountOlympu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world-geographics.com/maps/europe/map-of-europe-with-country-borde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aturetravelspecialists.com/images/europe/full/greekcoastf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upload.wikimedia.org/wikipedia/commons/b/b9/Aegean_se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grino.org/chicago/images/oil_companies/zygaria_antallagi_emboreumaton_650_bg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.aurorahistoryboutique.com/tag/ancient-greek-government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MC900440432[1]"/>
          <p:cNvPicPr/>
          <p:nvPr/>
        </p:nvPicPr>
        <p:blipFill>
          <a:blip r:embed="rId1"/>
          <a:stretch/>
        </p:blipFill>
        <p:spPr>
          <a:xfrm>
            <a:off x="1295280" y="1219320"/>
            <a:ext cx="4114800" cy="387972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6"/>
          <p:cNvSpPr/>
          <p:nvPr/>
        </p:nvSpPr>
        <p:spPr>
          <a:xfrm>
            <a:off x="4648320" y="1219320"/>
            <a:ext cx="3962160" cy="2133360"/>
          </a:xfrm>
          <a:prstGeom prst="wedgeEllipseCallout">
            <a:avLst>
              <a:gd name="adj1" fmla="val -55009"/>
              <a:gd name="adj2" fmla="val 46875"/>
            </a:avLst>
          </a:prstGeom>
          <a:solidFill>
            <a:srgbClr val="ff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Bodoni MT Black"/>
              </a:rPr>
              <a:t>THANK YOU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Bodoni MT Black"/>
              </a:rPr>
              <a:t>THANK YOU VERY MUC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MS900082198[1].mid" descr=""/>
          <p:cNvPicPr/>
          <p:nvPr/>
        </p:nvPicPr>
        <p:blipFill>
          <a:blip r:embed="rId2"/>
          <a:stretch/>
        </p:blipFill>
        <p:spPr>
          <a:xfrm>
            <a:off x="23623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6532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4:22:12Z</dcterms:created>
  <dc:creator>Administrator</dc:creator>
  <dc:description/>
  <dc:language>en-US</dc:language>
  <cp:lastModifiedBy>Owner</cp:lastModifiedBy>
  <dcterms:modified xsi:type="dcterms:W3CDTF">2011-05-23T15:03:11Z</dcterms:modified>
  <cp:revision>10</cp:revision>
  <dc:subject/>
  <dc:title>Geography of Greece</dc:title>
</cp:coreProperties>
</file>